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7E636-AA7B-420E-BEF9-10B519E505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37EFD-B4B0-4C77-8106-03863D6B5A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FCF8F-4D6D-40EB-A144-55E7A09FCF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EC9EE-AE36-427A-A7A5-7ACEF2905D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70227-A47C-49C7-9FA0-00C39F82C9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C7A7E-F754-48B0-80DC-BEF6F67B60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2F1E9-9DAF-4D81-A851-D73FC8D9FB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5BE5D-FD2F-4589-888E-53D36580E4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7D3CF-7B01-41C1-9D0E-7D8E7BF345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A888E-8C4A-4162-8E42-7802898107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D19BB-C361-473E-9DFA-75E8182B31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B688E-CB56-4B7A-B2BE-D85C2D8F5D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4A8B8-5444-492F-97D4-3500A6CF38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97464-E520-4127-95AB-65091A77D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75ACC-A0C1-4328-97D6-A69EA8BCF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46B88-9887-4CE9-8456-0535CA032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E5E68-DFBA-4ED9-99DB-AE9F20012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CD9D3-CFD8-4877-8930-05DFA7055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04F18-EB34-4D6D-9C3C-F1675505F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69F30-1CA3-44EC-9454-2B2266DC4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FAEBA-280C-4217-BE86-7CF8EDE4A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8F6CD-399A-43F0-8266-049A179A9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94943-508D-4A96-898D-0030DC066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01E4E-08F6-4669-82CC-6BBC37F17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28B5C-D285-4BFF-8904-46A247F1A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060DB-EACC-426C-B7BE-CA3C91C1BB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office@canvasopedia.org" TargetMode="External"/><Relationship Id="rId2" Type="http://schemas.openxmlformats.org/officeDocument/2006/relationships/hyperlink" Target="http://www.canvasopedia.org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9"/>
          <p:cNvSpPr/>
          <p:nvPr/>
        </p:nvSpPr>
        <p:spPr>
          <a:xfrm>
            <a:off x="0" y="2373480"/>
            <a:ext cx="9144000" cy="3157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590400" y="2467080"/>
            <a:ext cx="7937640" cy="38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Centre for Applied NonViolent Conflict and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(CANVAS)  is non-profit, non-governmental international networ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iented to educational work related to strategic nonviolent confli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ur mission is to reach widest possible international audienc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in order to share experiences and learn more on Strategic nonviolent confli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and examine related knowledge transfer Methods  for spr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is knowledge in the fu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Email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1"/>
              </a:rPr>
              <a:t>office@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Website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2"/>
              </a:rPr>
              <a:t>www.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2378160" y="111456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CANVAS:</a:t>
            </a: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o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0" y="1467000"/>
            <a:ext cx="9144000" cy="43084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63600" y="6634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f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piramida"/>
          <p:cNvPicPr/>
          <p:nvPr/>
        </p:nvPicPr>
        <p:blipFill>
          <a:blip r:embed="rId1"/>
          <a:stretch/>
        </p:blipFill>
        <p:spPr>
          <a:xfrm>
            <a:off x="866880" y="1533600"/>
            <a:ext cx="6943680" cy="42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8"/>
          <p:cNvSpPr/>
          <p:nvPr/>
        </p:nvSpPr>
        <p:spPr>
          <a:xfrm>
            <a:off x="0" y="1600200"/>
            <a:ext cx="9144000" cy="419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069560" y="2374920"/>
            <a:ext cx="48942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Curriculum on nonviolent struggle for activist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Complete Teacher`s book, Student`s book, Basic and Advanced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Handbook manual for activists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“Nonviolent struggle – 50 crucial points”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available in 5 languag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ree –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Subject Master studie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Strategy, methods and tactics of nonviolent social change”) on Belgrade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naslovna final1"/>
          <p:cNvPicPr/>
          <p:nvPr/>
        </p:nvPicPr>
        <p:blipFill>
          <a:blip r:embed="rId1"/>
          <a:stretch/>
        </p:blipFill>
        <p:spPr>
          <a:xfrm>
            <a:off x="6502320" y="1612800"/>
            <a:ext cx="1463760" cy="198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6" name="Text Box 9"/>
          <p:cNvSpPr/>
          <p:nvPr/>
        </p:nvSpPr>
        <p:spPr>
          <a:xfrm>
            <a:off x="1028880" y="1663560"/>
            <a:ext cx="693396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ogether with its partners and other internati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ganizations we have successfully develop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0" descr="naslovna"/>
          <p:cNvPicPr/>
          <p:nvPr/>
        </p:nvPicPr>
        <p:blipFill>
          <a:blip r:embed="rId2"/>
          <a:stretch/>
        </p:blipFill>
        <p:spPr>
          <a:xfrm>
            <a:off x="6473880" y="3803760"/>
            <a:ext cx="1484280" cy="19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8" name="Rectangle 12"/>
          <p:cNvSpPr/>
          <p:nvPr/>
        </p:nvSpPr>
        <p:spPr>
          <a:xfrm>
            <a:off x="791280" y="979560"/>
            <a:ext cx="75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1" lang="sr-Latn-C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6"/>
          <p:cNvSpPr/>
          <p:nvPr/>
        </p:nvSpPr>
        <p:spPr>
          <a:xfrm>
            <a:off x="0" y="1843200"/>
            <a:ext cx="9144000" cy="3101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2044800" y="2043000"/>
            <a:ext cx="212076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now-how on strategic non-violent struggle can be effectively transfer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5483160" y="2039760"/>
            <a:ext cx="2557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Every single group practicing strategic nonviolent action adds to knowledge and list of metho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3807000" y="3759120"/>
            <a:ext cx="1538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evolutions cannot be exported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mpor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1419120" y="3765600"/>
            <a:ext cx="1538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Oppressors tend to learn as well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6129360" y="3767040"/>
            <a:ext cx="2536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here is a rising interest and request for this type of knowledge trans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2328840" y="1122480"/>
            <a:ext cx="4392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BASIC CONCLU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1323720" y="185904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5"/>
          <p:cNvSpPr/>
          <p:nvPr/>
        </p:nvSpPr>
        <p:spPr>
          <a:xfrm>
            <a:off x="4722840" y="18493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6"/>
          <p:cNvSpPr/>
          <p:nvPr/>
        </p:nvSpPr>
        <p:spPr>
          <a:xfrm>
            <a:off x="74592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7"/>
          <p:cNvSpPr/>
          <p:nvPr/>
        </p:nvSpPr>
        <p:spPr>
          <a:xfrm>
            <a:off x="3103560" y="35575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8"/>
          <p:cNvSpPr/>
          <p:nvPr/>
        </p:nvSpPr>
        <p:spPr>
          <a:xfrm>
            <a:off x="539748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363600" y="1979640"/>
            <a:ext cx="4151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ols for disseminating this knowledge produced and distributed by international organizations (Albert Einstein Institutions, ICNC, CANVAS) tend to be distributed all over the world, and activists find a way to translate it and distribute it within countries, which results in rising interest for dissemination of this type of knowledge as well as number of requests for worksh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Systematic upgrade of tools as well as building international cohort of educators able to transfer this knowledge is an activity which can help non-violent movements worldwide in fu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879840" y="1030320"/>
            <a:ext cx="7345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SUMMAR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Rising interest and request for this type of knowledge trans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Nantes (26)"/>
          <p:cNvPicPr/>
          <p:nvPr/>
        </p:nvPicPr>
        <p:blipFill>
          <a:blip r:embed="rId1"/>
          <a:stretch/>
        </p:blipFill>
        <p:spPr>
          <a:xfrm>
            <a:off x="4781520" y="2390760"/>
            <a:ext cx="3747960" cy="281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3"/>
          <p:cNvSpPr/>
          <p:nvPr/>
        </p:nvSpPr>
        <p:spPr>
          <a:xfrm>
            <a:off x="0" y="1147680"/>
            <a:ext cx="9144000" cy="4486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0" descr="IMG_3128"/>
          <p:cNvPicPr/>
          <p:nvPr/>
        </p:nvPicPr>
        <p:blipFill>
          <a:blip r:embed="rId1"/>
          <a:srcRect l="0" t="35832" r="4206" b="34272"/>
          <a:stretch/>
        </p:blipFill>
        <p:spPr>
          <a:xfrm>
            <a:off x="1146240" y="1162080"/>
            <a:ext cx="6778440" cy="1587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4" name="Rectangle 2"/>
          <p:cNvSpPr/>
          <p:nvPr/>
        </p:nvSpPr>
        <p:spPr>
          <a:xfrm>
            <a:off x="1125360" y="2697120"/>
            <a:ext cx="68580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om 2002-2009 CANVAS organized or participated in 106 workshops or conferences with more than 1800 participants coming from 59 different countries trying to empower non-violent movements or help international organizations to act in more efficient mann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its partners CANVAS has developed Curriculum for transferring knowledge on nonviolent struggle and has published two book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Belgrade University CANVAS has developed graduate studies on methods of Nonviolent social change, which has started in February 200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1"/>
          <p:cNvSpPr/>
          <p:nvPr/>
        </p:nvSpPr>
        <p:spPr>
          <a:xfrm>
            <a:off x="0" y="2381400"/>
            <a:ext cx="9144000" cy="325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3857760" y="5111640"/>
            <a:ext cx="386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524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orking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1271520" y="1014480"/>
            <a:ext cx="66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EXAMPLE CANVAS ACTIVITIES 2007-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2570040" y="15289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ere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" descr=""/>
          <p:cNvPicPr/>
          <p:nvPr/>
        </p:nvPicPr>
        <p:blipFill>
          <a:blip r:embed="rId1"/>
          <a:stretch/>
        </p:blipFill>
        <p:spPr>
          <a:xfrm>
            <a:off x="1069920" y="3236760"/>
            <a:ext cx="2739960" cy="23878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5"/>
          <p:cNvSpPr/>
          <p:nvPr/>
        </p:nvSpPr>
        <p:spPr>
          <a:xfrm>
            <a:off x="1405080" y="2600280"/>
            <a:ext cx="70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In 2007-2010  CANVAS has  organized or participated i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7"/>
          <p:cNvSpPr/>
          <p:nvPr/>
        </p:nvSpPr>
        <p:spPr>
          <a:xfrm>
            <a:off x="3800520" y="3340080"/>
            <a:ext cx="34448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62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workshops, transferring knowledge  to groups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9"/>
          <p:cNvSpPr/>
          <p:nvPr/>
        </p:nvSpPr>
        <p:spPr>
          <a:xfrm>
            <a:off x="4239000" y="4359240"/>
            <a:ext cx="334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46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untries with total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mapa kontinenti"/>
          <p:cNvPicPr/>
          <p:nvPr/>
        </p:nvPicPr>
        <p:blipFill>
          <a:blip r:embed="rId1"/>
          <a:stretch/>
        </p:blipFill>
        <p:spPr>
          <a:xfrm>
            <a:off x="581040" y="1569960"/>
            <a:ext cx="6932520" cy="40766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2"/>
          <p:cNvSpPr/>
          <p:nvPr/>
        </p:nvSpPr>
        <p:spPr>
          <a:xfrm>
            <a:off x="433440" y="1055520"/>
            <a:ext cx="8078760" cy="48355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533520" y="1109520"/>
            <a:ext cx="1608120" cy="720720"/>
          </a:xfrm>
          <a:prstGeom prst="rect">
            <a:avLst/>
          </a:prstGeom>
          <a:solidFill>
            <a:srgbClr val="ff9933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NOR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USA (2006,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6181560" y="4978440"/>
            <a:ext cx="2133720" cy="641520"/>
          </a:xfrm>
          <a:prstGeom prst="rect">
            <a:avLst/>
          </a:prstGeom>
          <a:solidFill>
            <a:srgbClr val="6699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USTRALIA&amp;OCE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West Papua, Fiji, Tong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3438360" y="1058760"/>
            <a:ext cx="1857600" cy="1554120"/>
          </a:xfrm>
          <a:prstGeom prst="rect">
            <a:avLst/>
          </a:prstGeom>
          <a:solidFill>
            <a:srgbClr val="0099c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EUROP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kraine (2002)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elarus (2002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 2006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Georgia (2003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Turkey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Ireland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pai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6566040" y="1405080"/>
            <a:ext cx="1973160" cy="2831760"/>
          </a:xfrm>
          <a:prstGeom prst="rect">
            <a:avLst/>
          </a:prstGeom>
          <a:solidFill>
            <a:srgbClr val="00999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SIA / MIDDLE 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Azerbaijan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ebanon (2004, 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North Kore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n (2005,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Palestine  (2004,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zbekistan 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azakhstan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yrgyzstan (2006)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Maldives (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Vietnam (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Jorda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gypt (2007,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Syria (2007, 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q (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847800" y="4457880"/>
            <a:ext cx="1600200" cy="1189080"/>
          </a:xfrm>
          <a:prstGeom prst="rect">
            <a:avLst/>
          </a:prstGeom>
          <a:solidFill>
            <a:srgbClr val="ff33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SOU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olombia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Venezuel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ub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uatemal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olivia (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3587760" y="3978360"/>
            <a:ext cx="1838160" cy="1919160"/>
          </a:xfrm>
          <a:prstGeom prst="rect">
            <a:avLst/>
          </a:prstGeom>
          <a:solidFill>
            <a:srgbClr val="99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Zimbabwe (2002,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2003, 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ritre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iera Leone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ib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vory coast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West Sahar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Nig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han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8"/>
          <p:cNvSpPr/>
          <p:nvPr/>
        </p:nvSpPr>
        <p:spPr>
          <a:xfrm>
            <a:off x="0" y="1730520"/>
            <a:ext cx="9144000" cy="3779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609480" y="1866960"/>
            <a:ext cx="54151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GEORGIA, 2003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to “Kmara” movement which has launched “Revolution of Roses” and replaced Kuchma. Shakkashvilli sworn presi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UKRAINE:, 2004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and trainings for “PORA” movement who was a leading engine of “Orange Revolution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LEBANON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Training initial groups who has performed “Ceddar Revolution” in 2004, launching million-people sit in after Harriri’s assassination with the effect of Syrian troops leaving Lebanon after 35 years of confli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MALDIVES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ctober 2008 Electoral victory of MDP and its democratic allies against dictator Gayoom. Mohamed Rasheed Anni elected as first democratic president of this tiny and 100% Muslim count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23B-natt"/>
          <p:cNvPicPr/>
          <p:nvPr/>
        </p:nvPicPr>
        <p:blipFill>
          <a:blip r:embed="rId1"/>
          <a:stretch/>
        </p:blipFill>
        <p:spPr>
          <a:xfrm>
            <a:off x="6154560" y="1752480"/>
            <a:ext cx="2819520" cy="163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5" name="Picture 5" descr="ukraine"/>
          <p:cNvPicPr/>
          <p:nvPr/>
        </p:nvPicPr>
        <p:blipFill>
          <a:blip r:embed="rId2"/>
          <a:stretch/>
        </p:blipFill>
        <p:spPr>
          <a:xfrm>
            <a:off x="6154560" y="3571920"/>
            <a:ext cx="2819520" cy="193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6" name="Rectangle 9"/>
          <p:cNvSpPr/>
          <p:nvPr/>
        </p:nvSpPr>
        <p:spPr>
          <a:xfrm>
            <a:off x="2747520" y="1054080"/>
            <a:ext cx="350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success li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5"/>
          <p:cNvSpPr/>
          <p:nvPr/>
        </p:nvSpPr>
        <p:spPr>
          <a:xfrm>
            <a:off x="0" y="1581120"/>
            <a:ext cx="9144000" cy="432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1600200" y="987480"/>
            <a:ext cx="5867280" cy="53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key ongoing refere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ZIMBABW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with coalition of opposition and NGO s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BOLIVIA, VENEZUELA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successful preparation of 2008 GOTV and “NO” referendum campaign and forthcoming 2009. elections with groups from Santa Cruz. Official statements of president Chavez pointing “OTPOR as main troublemakers in Venezuela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BELARUS-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ngoing program with student groups and NGO`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BURMA, VIETNAM TIBE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trainings with activists from inside countries, including meetings with Central Tibetan Administration and Dalai L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5. MIDDLE EAS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in Syria and Iraq, consultation with Iran pro-democracy grou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6" descr="niz  cb"/>
          <p:cNvPicPr/>
          <p:nvPr/>
        </p:nvPicPr>
        <p:blipFill>
          <a:blip r:embed="rId1"/>
          <a:stretch/>
        </p:blipFill>
        <p:spPr>
          <a:xfrm>
            <a:off x="0" y="1589040"/>
            <a:ext cx="9144000" cy="1157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5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1414440" y="2171880"/>
            <a:ext cx="62485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eedom ho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Republican Institute (IR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United States institute for Peace (USI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Albert Einstein Instit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centre on Nonviolent Conflict (ICN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UFT (Fletcher School of Law and Diplomacy), Boston, 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Colorado College (C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Grinnell College (I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utgers College (NJ, N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ings College (London, U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Belgrade Faculty of Political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6"/>
          <p:cNvSpPr/>
          <p:nvPr/>
        </p:nvSpPr>
        <p:spPr>
          <a:xfrm>
            <a:off x="1387080" y="1082520"/>
            <a:ext cx="62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- Cooperation and Partnershi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00"/>
          <p:cNvSpPr/>
          <p:nvPr/>
        </p:nvSpPr>
        <p:spPr>
          <a:xfrm>
            <a:off x="0" y="1760400"/>
            <a:ext cx="9144000" cy="356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5040" y="817560"/>
            <a:ext cx="73152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Target audiences</a:t>
            </a:r>
            <a:r>
              <a:rPr b="0" lang="sr-Latn-C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508040" y="1781280"/>
          <a:ext cx="6096240" cy="3541680"/>
        </p:xfrm>
        <a:graphic>
          <a:graphicData uri="http://schemas.openxmlformats.org/drawingml/2006/table">
            <a:tbl>
              <a:tblPr/>
              <a:tblGrid>
                <a:gridCol w="2594160"/>
                <a:gridCol w="3502080"/>
              </a:tblGrid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GRO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WE WANT THEM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</a:tr>
              <a:tr h="67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NVS VETER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FROM COUN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Become part of our educatonal networ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RO/DEMOCRACY GROUPS FROM THE RE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Discover part of our snvc and express interest for learning m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CADEMIC SOCIE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MED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Learn about snv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INTERNATIONAL ORGANIZ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Help us spread our messag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educate target audien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0" y="1771560"/>
            <a:ext cx="9144000" cy="39308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METHOD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knowledge trans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308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Workshops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existing tools, curriculum and reference list of books and articles, A Force More Powerful video game, movies and DVD’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International Network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of trainers and consultant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7 trainers from Serbia, 3 from Georgia, 2 from Lebanon, 1 from Philippines and one from South Afric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Educational content upgrad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 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New modules, University course, Specialized cour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1" descr="IMG_3162"/>
          <p:cNvPicPr/>
          <p:nvPr/>
        </p:nvPicPr>
        <p:blipFill>
          <a:blip r:embed="rId1"/>
          <a:stretch/>
        </p:blipFill>
        <p:spPr>
          <a:xfrm>
            <a:off x="4822920" y="2112840"/>
            <a:ext cx="3968640" cy="297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4T18:14:19Z</dcterms:created>
  <dc:creator>Srdja</dc:creator>
  <dc:description/>
  <dc:language>en-US</dc:language>
  <cp:lastModifiedBy>Owner</cp:lastModifiedBy>
  <dcterms:modified xsi:type="dcterms:W3CDTF">2010-05-09T21:06:56Z</dcterms:modified>
  <cp:revision>30</cp:revision>
  <dc:subject/>
  <dc:title>Slide 1</dc:title>
</cp:coreProperties>
</file>